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D794-0CC8-46FE-B62D-D61EB5431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3908-A2EF-424A-917C-A39F3E33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F9E2-0244-4F86-9C6A-99E1EDF0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732F-1789-4DC1-A33E-F3398C80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EF60-082A-4499-8FDB-81C5881A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FBA8-48A8-4C05-AF5E-CA58C2B4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32373-F5DB-4FFA-BF23-E784F5164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81DC-B041-4643-B600-C96ECC4A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B2AF-1EE2-42A8-B49F-A5F774C0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0E3C-0B80-49B0-8F5C-7E5F38A94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3FFF-DBD7-40D0-9726-B6F76D97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91D3-259B-4DF0-9E24-703464D9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1F0C8-4C92-4BE3-8A17-BD135B6C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B608-1808-43D0-8A8D-C0F46A43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85B6-5077-4E9C-BF32-580E468A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E784B-2B2E-4D9B-B962-6B92B6E3B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C18D-0909-4141-8F2E-304928F5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A658-013A-4998-8066-D6D87FCB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230F-86EF-4C1D-B83D-C2C105ADA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A879-C35A-416C-8AFC-CA97AD2F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8C03-A8D7-46C7-A707-EF81CB03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CE76-E555-457A-B22A-94BA4151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B94C-D0AB-4265-B5C1-61A31BF1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178B-436A-4A7E-AF77-00CC79E3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63C3-65B6-4178-AAC2-17986C34AD53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FC03-D5A2-43CF-BBA3-023360B7E931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457200"/>
            <a:ext cx="7162920" cy="66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En nuestra sociedad existen relaciones desiguales entre hombres y muje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Creencias como: “ los hombres son el sexo fuerte y las mujeres el sexo débil” refuerzan esta desigualdad y generan discrimin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 Unicode MS"/>
              </a:rPr>
              <a:t>Históricamente bajo estos mitos se han limitado las posibilidades de desarrollo para ambos y se han posibilitado forma de dominio, relaciones violentas y segregaciones en base a esta diferencia sexu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Arial Unicode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50920" y="333360"/>
            <a:ext cx="75610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o lo anterior se refleja en el mundo del Trabajo y la microempresa Y afecta de manera diferente a H y M ME EJ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o las mujeres “son de la casa” existe menor diferenciación de los espacios familiares y productivos, además muchas son jefas de hog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or separación de las labores domésticas y de crianza y las laborales+ agobio – productiv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le o triple jornada de trabajo. Traspaso de las labores a otras mujeres de la familia generalmente las hijas/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los hombres esto generalmente esta resuelto, pero por exigencias del rol de proveedores y bajos ingresos trabajan + por -  vida familiar - af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76438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bos H y M cuentan con dificultades para el acceso a recursos, créditos, tecnología pero las M aún más por trabas legales y culturales y contar con menor ingres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bajo de las M en rubros menos valorados creencia de que existen oficios para hombres y para muje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ercialización M menor conocimiento del mundo público, menor socialización en el mundo de los negocios economía domés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odificar estas relaciones es tarea de hombres y muje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sto permite un mejor desarrollo personal y potenciar nuestras habil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enerar relaciones más igualitarias en todos los espacios so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mover y construir la equ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mover los Derechos personales y colectiv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acer estas reflexiones identificar estas diferencias y modificarlas es un primer paso para incorporar la perspectiva de género en los negoci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685800"/>
            <a:ext cx="74674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  <a:ea typeface="Arial Unicode MS"/>
              </a:rPr>
              <a:t>Frecuentemente se usan los conceptos sexo y género para referirse a hombres y mujeres y para diferenciar</a:t>
            </a:r>
            <a:r>
              <a:rPr b="0" lang="es-ES_tradnl" sz="4000" spc="-1" strike="noStrike">
                <a:solidFill>
                  <a:srgbClr val="000000"/>
                </a:solidFill>
                <a:latin typeface="Tahoma"/>
                <a:ea typeface="Arial Unicode MS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  <a:ea typeface="Arial Unicode MS"/>
              </a:rPr>
              <a:t>- 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  <a:ea typeface="Arial Unicode MS"/>
              </a:rPr>
              <a:t>conduc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  <a:ea typeface="Arial Unicode MS"/>
              </a:rPr>
              <a:t>- 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  <a:ea typeface="Arial Unicode MS"/>
              </a:rPr>
              <a:t>actividad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  <a:ea typeface="Arial Unicode MS"/>
              </a:rPr>
              <a:t>- 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  <a:ea typeface="Arial Unicode MS"/>
              </a:rPr>
              <a:t>formas de ser de cada uno/a.</a:t>
            </a:r>
            <a:r>
              <a:rPr b="1" lang="es-ES" sz="4000" spc="-1" strike="noStrike">
                <a:solidFill>
                  <a:srgbClr val="000000"/>
                </a:solidFill>
                <a:latin typeface="Tahoma"/>
                <a:ea typeface="Arial Unicode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  <a:ea typeface="Arial Unicode MS"/>
              </a:rPr>
              <a:t>Sin embargo, SEXO </a:t>
            </a:r>
            <a:r>
              <a:rPr b="0" lang="es-ES_tradnl" sz="4000" spc="-1" strike="noStrike">
                <a:solidFill>
                  <a:srgbClr val="000000"/>
                </a:solidFill>
                <a:latin typeface="Tahoma"/>
                <a:ea typeface="Arial Unicode MS"/>
              </a:rPr>
              <a:t>y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  <a:ea typeface="Arial Unicode MS"/>
              </a:rPr>
              <a:t> GÉNERO son dos conceptos diferent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876920" y="2895480"/>
            <a:ext cx="750600" cy="1067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095880" y="2743200"/>
            <a:ext cx="954360" cy="13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40" y="1141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920" y="304920"/>
            <a:ext cx="7543440" cy="6247800"/>
            <a:chOff x="304920" y="304920"/>
            <a:chExt cx="7543440" cy="6247800"/>
          </a:xfrm>
        </p:grpSpPr>
        <p:grpSp>
          <p:nvGrpSpPr>
            <p:cNvPr id="154" name=""/>
            <p:cNvGrpSpPr/>
            <p:nvPr/>
          </p:nvGrpSpPr>
          <p:grpSpPr>
            <a:xfrm>
              <a:off x="311040" y="313200"/>
              <a:ext cx="7529760" cy="6229800"/>
              <a:chOff x="311040" y="313200"/>
              <a:chExt cx="7529760" cy="622980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311040" y="313200"/>
                <a:ext cx="3652920" cy="985320"/>
                <a:chOff x="311040" y="313200"/>
                <a:chExt cx="3652920" cy="9853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370080" y="313200"/>
                  <a:ext cx="3534120" cy="98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MX" sz="2800" spc="-1" strike="noStrike">
                      <a:solidFill>
                        <a:srgbClr val="000000"/>
                      </a:solidFill>
                      <a:latin typeface="Tahoma"/>
                    </a:rPr>
                    <a:t>SEX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11040" y="313200"/>
                  <a:ext cx="3652920" cy="98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964320" y="313200"/>
                <a:ext cx="3876480" cy="985320"/>
                <a:chOff x="3964320" y="313200"/>
                <a:chExt cx="3876480" cy="9853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4024080" y="313200"/>
                  <a:ext cx="3757320" cy="98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2286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800" spc="-1" strike="noStrike">
                      <a:solidFill>
                        <a:srgbClr val="000000"/>
                      </a:solidFill>
                      <a:latin typeface="Tahoma"/>
                    </a:rPr>
                    <a:t>GÉNER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964320" y="313200"/>
                  <a:ext cx="3876480" cy="985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311040" y="1298880"/>
                <a:ext cx="3652920" cy="5244120"/>
                <a:chOff x="311040" y="1298880"/>
                <a:chExt cx="3652920" cy="52441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70080" y="1298880"/>
                  <a:ext cx="3534120" cy="524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Tahoma"/>
                    </a:rPr>
                    <a:t>Son características físicas y biológicas que nos distinguen como macho y  hembra.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Tahoma"/>
                    </a:rPr>
                    <a:t>Se relaciona con la reproducción de la especie.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Tahoma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Tahoma"/>
                    </a:rPr>
                    <a:t>Determinan que un ser humano sea Mujer  u Hombre.</a:t>
                  </a:r>
                  <a:r>
                    <a:rPr b="0" lang="es-MX" sz="1800" spc="-1" strike="noStrike">
                      <a:solidFill>
                        <a:srgbClr val="000000"/>
                      </a:solidFill>
                      <a:latin typeface="Tahoma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800" spc="-1" strike="noStrike">
                      <a:solidFill>
                        <a:srgbClr val="000000"/>
                      </a:solidFill>
                      <a:latin typeface="Tahoma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ahoma"/>
                    </a:rPr>
                    <a:t>No varían.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ahoma"/>
                    </a:rPr>
                    <a:t>Son inmodificables.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6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11040" y="1298880"/>
                  <a:ext cx="3652920" cy="524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3964320" y="1298880"/>
                <a:ext cx="3876480" cy="5244120"/>
                <a:chOff x="3964320" y="1298880"/>
                <a:chExt cx="3876480" cy="524412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024080" y="1298880"/>
                  <a:ext cx="3757320" cy="524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Tahoma"/>
                    </a:rPr>
                    <a:t>Es una construcción cultural  de las diferencias a partir del sexo. 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Tahoma"/>
                    </a:rPr>
                    <a:t>Son roles y conductas  asignadas por la sociedad  a  cada uno de los sexos.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1600" spc="-1" strike="noStrike">
                      <a:solidFill>
                        <a:srgbClr val="000000"/>
                      </a:solidFill>
                      <a:latin typeface="Tahoma"/>
                    </a:rPr>
                    <a:t> 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Tahoma"/>
                    </a:rPr>
                    <a:t>Es lo que conocemos como lo masculino y lo femenino.</a:t>
                  </a:r>
                  <a:r>
                    <a:rPr b="0" lang="es-MX" sz="1800" spc="-1" strike="noStrike">
                      <a:solidFill>
                        <a:srgbClr val="000000"/>
                      </a:solidFill>
                      <a:latin typeface="Tahoma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Tahoma"/>
                    </a:rPr>
                    <a:t>Se aprenden a lo largo de la vida (socialización).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Tahoma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ahoma"/>
                    </a:rPr>
                    <a:t>Varían de cultura en cultura. </a:t>
                  </a:r>
                  <a:r>
                    <a:rPr b="0" lang="es-MX" sz="2000" spc="-1" strike="noStrike">
                      <a:solidFill>
                        <a:srgbClr val="000000"/>
                      </a:solidFill>
                      <a:latin typeface="Tahoma"/>
                    </a:rPr>
                    <a:t>Pueden modificarse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Arial Unicode MS"/>
                      <a:ea typeface="Arial Unicode MS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964320" y="1298880"/>
                  <a:ext cx="3876480" cy="5244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7" name=""/>
            <p:cNvSpPr/>
            <p:nvPr/>
          </p:nvSpPr>
          <p:spPr>
            <a:xfrm>
              <a:off x="304920" y="304920"/>
              <a:ext cx="7543440" cy="6247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240" y="51674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001000" y="1981080"/>
            <a:ext cx="954000" cy="1347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8077320" y="4038480"/>
            <a:ext cx="7506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4920" y="609480"/>
            <a:ext cx="7391160" cy="57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 las características y roles atribuidos a lo femenino y lo masculino surge la división entre mundo privado o mundo de la casa  y mundo público o mundo de la call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ambién se conocen como esfera privada reproductiva y esfera pública productiv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33"/>
                </a:solidFill>
                <a:latin typeface="Tahoma"/>
              </a:rPr>
              <a:t>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457200"/>
            <a:ext cx="73152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Hasta antes de la Revolución Industrial, en el 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hogar 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se 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 compartían 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las 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labores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 de crianza de los hijos y el trabajo productivo artesa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Con la invención de la máquina surge la industria y con ello se separan las funciones y actividades 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que realizaban sus integrantes 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en</a:t>
            </a:r>
            <a:r>
              <a:rPr b="0" lang="es-ES_tradnl" sz="2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DUCTIVAS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     REPRODUC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09480" y="4419720"/>
            <a:ext cx="2254320" cy="21333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105520" y="4419720"/>
            <a:ext cx="236196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267080" y="1143000"/>
            <a:ext cx="365760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33"/>
                </a:solidFill>
                <a:latin typeface="Tahoma"/>
              </a:rPr>
              <a:t>MUNDO REPRODU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33"/>
                </a:solidFill>
                <a:latin typeface="Tahoma"/>
              </a:rPr>
              <a:t>HOGAR/CA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Tahoma"/>
              </a:rPr>
              <a:t>MUNDO </a:t>
            </a:r>
            <a:r>
              <a:rPr b="1" lang="es-ES" sz="1800" spc="-1" strike="noStrike">
                <a:solidFill>
                  <a:srgbClr val="333333"/>
                </a:solidFill>
                <a:latin typeface="Tahoma"/>
              </a:rPr>
              <a:t>PRIV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33"/>
                </a:solidFill>
                <a:latin typeface="Tahoma"/>
              </a:rPr>
              <a:t>DESVALORAD</a:t>
            </a:r>
            <a:r>
              <a:rPr b="1" lang="es-ES_tradnl" sz="1800" spc="-1" strike="noStrike">
                <a:solidFill>
                  <a:srgbClr val="333333"/>
                </a:solidFill>
                <a:latin typeface="Tahoma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33"/>
                </a:solidFill>
                <a:latin typeface="Tahoma"/>
              </a:rPr>
              <a:t>Actividades gratu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33"/>
                </a:solidFill>
                <a:latin typeface="Tahoma"/>
              </a:rPr>
              <a:t>Actividades poco valoradas y sin </a:t>
            </a:r>
            <a:r>
              <a:rPr b="1" lang="es-ES" sz="2000" spc="-1" strike="noStrike">
                <a:solidFill>
                  <a:srgbClr val="333333"/>
                </a:solidFill>
                <a:latin typeface="Tahoma"/>
              </a:rPr>
              <a:t>reconocimiento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33"/>
                </a:solidFill>
                <a:latin typeface="Tahoma"/>
              </a:rPr>
              <a:t>Realizadas en ais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33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33"/>
                </a:solidFill>
                <a:latin typeface="Tahoma"/>
              </a:rPr>
              <a:t>Mundo de los Afe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Tahoma"/>
              </a:rPr>
              <a:t>LO</a:t>
            </a:r>
            <a:r>
              <a:rPr b="1" lang="es-ES" sz="1800" spc="-1" strike="noStrike">
                <a:solidFill>
                  <a:srgbClr val="333333"/>
                </a:solidFill>
                <a:latin typeface="Tahoma"/>
              </a:rPr>
              <a:t>  FEMEN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33"/>
                </a:solidFill>
                <a:latin typeface="Tahoma"/>
              </a:rPr>
              <a:t>Lo propio de la muje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33"/>
                </a:solidFill>
                <a:latin typeface="Tahoma"/>
              </a:rPr>
              <a:t>MUNDO DEL TRABAJO DOME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1143000"/>
            <a:ext cx="3962520" cy="46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33"/>
                </a:solidFill>
                <a:latin typeface="Tahoma"/>
              </a:rPr>
              <a:t>MUNDO PRODUC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33"/>
                </a:solidFill>
                <a:latin typeface="Tahoma"/>
              </a:rPr>
              <a:t>FABRICA</a:t>
            </a:r>
            <a:r>
              <a:rPr b="1" lang="es-ES_tradnl" sz="1800" spc="-1" strike="noStrike">
                <a:solidFill>
                  <a:srgbClr val="333333"/>
                </a:solidFill>
                <a:latin typeface="Tahoma"/>
              </a:rPr>
              <a:t>  /CAL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Tahoma"/>
              </a:rPr>
              <a:t>MUNDO </a:t>
            </a:r>
            <a:r>
              <a:rPr b="1" lang="es-ES" sz="1800" spc="-1" strike="noStrike">
                <a:solidFill>
                  <a:srgbClr val="333333"/>
                </a:solidFill>
                <a:latin typeface="Tahoma"/>
              </a:rPr>
              <a:t>PÚBL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Tahoma"/>
              </a:rPr>
              <a:t>  </a:t>
            </a:r>
            <a:r>
              <a:rPr b="1" lang="es-ES" sz="1800" spc="-1" strike="noStrike">
                <a:solidFill>
                  <a:srgbClr val="333333"/>
                </a:solidFill>
                <a:latin typeface="Tahoma"/>
              </a:rPr>
              <a:t>VALORADO</a:t>
            </a:r>
            <a:r>
              <a:rPr b="1" lang="es-ES_tradnl" sz="1800" spc="-1" strike="noStrike">
                <a:solidFill>
                  <a:srgbClr val="333333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33"/>
                </a:solidFill>
                <a:latin typeface="Tahoma"/>
              </a:rPr>
              <a:t>Actividades Remuner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33"/>
                </a:solidFill>
                <a:latin typeface="Tahoma"/>
              </a:rPr>
              <a:t>Actividades con status y recono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Tahoma"/>
              </a:rPr>
              <a:t>     </a:t>
            </a:r>
            <a:r>
              <a:rPr b="1" lang="es-ES" sz="2000" spc="-1" strike="noStrike">
                <a:solidFill>
                  <a:srgbClr val="333333"/>
                </a:solidFill>
                <a:latin typeface="Tahoma"/>
              </a:rPr>
              <a:t>Posibilitan la sociabilidad</a:t>
            </a:r>
            <a:r>
              <a:rPr b="1" lang="es-ES" sz="2000" spc="-1" strike="noStrike">
                <a:solidFill>
                  <a:srgbClr val="333333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33"/>
                </a:solidFill>
                <a:latin typeface="Tahoma"/>
              </a:rPr>
              <a:t>Mundo de la Raz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33"/>
                </a:solidFill>
                <a:latin typeface="Tahoma"/>
              </a:rPr>
              <a:t>LO </a:t>
            </a:r>
            <a:r>
              <a:rPr b="1" lang="es-ES" sz="1800" spc="-1" strike="noStrike">
                <a:solidFill>
                  <a:srgbClr val="333333"/>
                </a:solidFill>
                <a:latin typeface="Tahoma"/>
              </a:rPr>
              <a:t>MASCUL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33"/>
                </a:solidFill>
                <a:latin typeface="Tahoma"/>
              </a:rPr>
              <a:t>lo propio del hombr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3333"/>
                </a:solidFill>
                <a:latin typeface="Tahoma"/>
              </a:rPr>
              <a:t>MUNDO DEL TRABAJO PRODUC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1219320"/>
            <a:ext cx="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586728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NDOS DIVIDID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0360" y="304920"/>
            <a:ext cx="720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0066"/>
                </a:solidFill>
                <a:latin typeface="Arial"/>
                <a:ea typeface="Times New Roman"/>
              </a:rPr>
              <a:t>“</a:t>
            </a:r>
            <a:r>
              <a:rPr b="1" lang="es-ES_tradnl" sz="2000" spc="-1" strike="noStrike">
                <a:solidFill>
                  <a:srgbClr val="330066"/>
                </a:solidFill>
                <a:latin typeface="Arial"/>
                <a:ea typeface="Times New Roman"/>
              </a:rPr>
              <a:t>Las Mujeres son de la casa, los Hombres son de la call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33520" y="228600"/>
            <a:ext cx="716256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Todo lo anterior lo aprendemos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n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la familia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 escuela, la iglesia y los medios de comunica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 esta forma, vamos aprendiendo lo que se espera socialmente de hombres y mujeres, lo que es propiamente femenino y lo que es masculi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sí vamos construyendo nuestra identidad de gén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276720" y="3546360"/>
            <a:ext cx="32004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0880" y="228600"/>
            <a:ext cx="7315200" cy="71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Yo por sobretodo, soy una buena madr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 identidad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da respuesta a la pregunt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Tahoma"/>
              </a:rPr>
              <a:t>¿Quién soy yo?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s lo que yo soy o siento que soy como perso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on todas las características pers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la construcción de la identidad  juega un rol fundamental la autoestima, es decir</a:t>
            </a:r>
            <a:r>
              <a:rPr b="0" lang="es-ES" sz="2000" spc="-1" strike="noStrike">
                <a:solidFill>
                  <a:srgbClr val="0000ff"/>
                </a:solidFill>
                <a:latin typeface="Tahoma"/>
              </a:rPr>
              <a:t>: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l valor que me atribuyo a mi misma/o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o las mujeres han sido socializadas en la subestima, es decir,</a:t>
            </a:r>
            <a:r>
              <a:rPr b="0" lang="es-ES" sz="20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una valoración menor a lo debido, muchas veces no reconocen sus capac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hombres son educados en la competencia, para ser jefes y mandar, por lo tanto tienen que demostrar socialmente que son capaces para ello (masculinida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r ello a cada sexo o género se le atribuyen características y conductas, roles y cualidades  diferentes que impiden el desarrollo de todas las potencialidades human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66680" y="990720"/>
            <a:ext cx="24768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uer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gres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oder de dec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uto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ici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stracción, pla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depen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r para s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24280" y="1143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00600" y="990720"/>
            <a:ext cx="274320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UJ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mid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ulz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cat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mi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as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acrifici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resig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Abne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pen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r para otr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23:06:13Z</dcterms:created>
  <dc:creator>TIERRA NUESTRA</dc:creator>
  <dc:description/>
  <dc:language>en-US</dc:language>
  <cp:lastModifiedBy>ELENA Y PABLO</cp:lastModifiedBy>
  <dcterms:modified xsi:type="dcterms:W3CDTF">2009-02-11T09:37:34Z</dcterms:modified>
  <cp:revision>13</cp:revision>
  <dc:subject/>
  <dc:title>Diapositiva 1</dc:title>
</cp:coreProperties>
</file>